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9000"/>
          </a:bodyPr>
          <a:p>
            <a:pPr marL="23652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9000"/>
          </a:bodyPr>
          <a:p>
            <a:pPr marL="23652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3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xtendida y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1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10 X 0,3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2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9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1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1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x 3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 x 3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3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 x 3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 x 3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7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8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0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7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1.1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1.2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7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8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9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.000 X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1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.000 x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4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x 3.00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7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11 x 3.000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  <a:ea typeface="Arial"/>
              </a:rPr>
              <a:t>3.000 x 0,12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6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4-14T08:22:37Z</dcterms:modified>
  <cp:revision>2</cp:revision>
  <dc:subject/>
  <dc:title/>
</cp:coreProperties>
</file>